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4967-D631-4435-BDBE-4D51F6901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B757-8A47-41A4-92C5-8CAA56637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87B5-0288-4A7C-A7DF-E688B76EF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579E2-7F6F-4CDD-8C37-C6B87A5F2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E5B8-2387-407D-BC58-9A1AE6F496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DCC4-A3FA-4860-A0C6-757A371319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3190-C366-49B8-BD87-D68BECD7FD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0F69-4076-48E2-8D7B-B27DDD31C8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DEC5-DF0E-481D-BF70-7FD222AB52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88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A6E2-E208-4460-BFAF-BB5EF12BEF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48ADD-2305-4473-8E18-C12E11E23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64C5-AA2F-4516-9564-50CD063DD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3D4D-9509-4C6C-A889-64E1EF021D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3AFC-BAC5-4A1C-B8B5-B667104D8E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A08C-5DF1-405D-BE46-3A0CE176AC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42DB9-446C-49CB-B313-A07C8F4BEE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1CCC-8C00-4E3C-B482-D9C2AF05B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6ABF-3B8B-44E3-BC36-8AA96E255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E839-756E-46A5-BD6F-E7689307F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0173-C632-4915-8740-879447F52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88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6832-6E5D-416D-BD86-93E119BBC3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245F-CA22-4A17-8A0F-C1F35222B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4DD4-D0E2-465B-BEBD-252CB9DE6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049A-62F3-4FE1-9FFC-72E0DCFA1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545472"/>
              </a:buClr>
              <a:buSzPct val="8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630360" indent="-285840">
              <a:spcBef>
                <a:spcPts val="799"/>
              </a:spcBef>
              <a:buClr>
                <a:srgbClr val="545472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0303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4875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19447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19447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1944720" indent="-228600">
              <a:spcBef>
                <a:spcPts val="799"/>
              </a:spcBef>
              <a:buClr>
                <a:srgbClr val="545472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38960" y="653220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5DD7-E1A3-4E94-BDEC-735854426C17}" type="slidenum">
              <a: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23760" y="1109520"/>
            <a:ext cx="9151560" cy="757080"/>
            <a:chOff x="23760" y="1109520"/>
            <a:chExt cx="9151560" cy="757080"/>
          </a:xfrm>
        </p:grpSpPr>
        <p:sp>
          <p:nvSpPr>
            <p:cNvPr id="40" name=""/>
            <p:cNvSpPr/>
            <p:nvPr/>
          </p:nvSpPr>
          <p:spPr>
            <a:xfrm>
              <a:off x="23760" y="110952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3760" y="127476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76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1840" y="1536480"/>
              <a:ext cx="385560" cy="2984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61960" y="110952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800" y="110952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14800" y="117000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70640" y="110952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02120" y="135576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608640" y="125064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13320" y="150012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40520" y="1622160"/>
              <a:ext cx="647640" cy="1555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41080" y="170172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4120" y="153180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04560" y="119988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68000" y="134136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60000" y="1596960"/>
              <a:ext cx="495360" cy="24768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34560" y="157140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657120" y="141120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82960" y="140652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913160" y="160812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460720" y="1490400"/>
              <a:ext cx="636840" cy="17316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0520" y="6161040"/>
            <a:ext cx="9156600" cy="127080"/>
            <a:chOff x="20520" y="6161040"/>
            <a:chExt cx="9156600" cy="127080"/>
          </a:xfrm>
        </p:grpSpPr>
        <p:sp>
          <p:nvSpPr>
            <p:cNvPr id="63" name=""/>
            <p:cNvSpPr/>
            <p:nvPr/>
          </p:nvSpPr>
          <p:spPr>
            <a:xfrm>
              <a:off x="6460920" y="618012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70200" y="616572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20" y="616104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273320" y="3728880"/>
            <a:ext cx="6400800" cy="31291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75000"/>
          </a:bodyPr>
          <a:p>
            <a:pPr marL="29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9520" algn="ctr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2"/>
          </p:nvPr>
        </p:nvSpPr>
        <p:spPr>
          <a:xfrm>
            <a:off x="7359480" y="651312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2473-236C-484B-B1BB-5D5C0863B73A}" type="slidenum">
              <a:rPr b="0" lang="en-US" sz="1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www.divinedigest.com/images/buddha.gif&amp;imgrefurl=http://www.divinedigest.com/buddhism.htm&amp;h=230&amp;w=150&amp;prev=/images%2525253Fq%2525253Dbuddha%25252526svnum%2525253D10%25252526hl%2525253Den%25252526lr%2525253D%25252526ie%2525253DUTF-8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www.dharma-haven.org/dharma-wheel.gif&amp;imgrefurl=http://www.dharma-haven.org/&amp;h=151&amp;w=149&amp;prev=/images%2525253Fq%2525253Ddharma%25252526svnum%2525253D10%25252526hl%2525253Den%25252526lr%2525253D%25252526ie%2525253DUTF-8%25252526sa%2525253DN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images.google.com/imgres?imgurl=www.samaggi-phala.or.id/sti/images/sangha.jpg&amp;imgrefurl=http://www.samaggi-phala.or.id/sti/sekilas.shtml&amp;h=312&amp;w=417&amp;prev=/images%2525253Fq%2525253Dsangha%25252526svnum%2525253D10%25252526hl%2525253Den%25252526lr%2525253D%25252526ie%2525253DUTF-8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hyperlink" Target="http://images.google.com/imgres?imgurl=www.babaji.com/images/buddha.gif&amp;imgrefurl=http://www.babaji.com/&amp;h=191&amp;w=150&amp;prev=/images%2525253Fq%2525253Dbuddha%25252526start%2525253D20%25252526svnum%2525253D10%25252526hl%2525253Den%25252526lr%2525253D%25252526ie%2525253DUTF-8%25252526oe%2525253DUTF-8%25252526sa%2525253DN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jem.get2net.dk/civet-cat/buddha.gif&amp;imgrefurl=http://hjem.get2net.dk/civet-cat/&amp;h=198&amp;w=190&amp;prev=/images%2525253Fq%2525253Dbuddha%25252526svnum%2525253D10%25252526hl%2525253Den%25252526lr%2525253D%25252526ie%2525253DUTF-8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106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129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Buddhism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272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Papyrus"/>
                <a:ea typeface="Papyrus"/>
              </a:rPr>
              <a:t>The “middle way of wisdom and compassion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2500 year old tradition that began in India and spread through the Far Ea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Followed by more than 300 million peopl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Based on the teachings of the Buddh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696080" y="76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136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159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 “</a:t>
            </a: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Three Jewels” of Buddh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057400"/>
            <a:ext cx="1165320" cy="1774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81280" y="2895480"/>
            <a:ext cx="1459080" cy="147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53080" y="3959280"/>
            <a:ext cx="1828800" cy="1374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1836360" y="2100240"/>
            <a:ext cx="4174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Papyrus"/>
                <a:ea typeface="Papyrus"/>
              </a:rPr>
              <a:t>Buddha – the teacher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00160" y="4522680"/>
            <a:ext cx="4636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Papyrus"/>
                <a:ea typeface="Papyrus"/>
              </a:rPr>
              <a:t>Dharma – the teaching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93920" y="5437080"/>
            <a:ext cx="4828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Papyrus"/>
                <a:ea typeface="Papyrus"/>
              </a:rPr>
              <a:t>Sangha – the community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7696080" y="76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171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194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Who was the Buddha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31640" y="1752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Born Siddhartha Gautama in India, 563 B.C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aised to be a k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Age 29:Rejected king to seek enlightenment and the solution to suffer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For six years he tried to figure the solution ou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Age 35: achieved Nirvana -an awakening to the truth about life(Buddha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8520" y="152280"/>
            <a:ext cx="1351080" cy="170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201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224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86600" y="1077840"/>
            <a:ext cx="1670040" cy="1741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What did the Buddha teach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54990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The Four Noble Truth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To live is to suff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Cause of suffering is self-centered desire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The solution is to eliminate desire and attach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Papyrus"/>
                <a:ea typeface="Papyrus"/>
              </a:rPr>
              <a:t>The way to Nirvana is through the “Eight-Fold Path”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4680" y="0"/>
            <a:ext cx="9151560" cy="757080"/>
            <a:chOff x="4680" y="0"/>
            <a:chExt cx="9151560" cy="757080"/>
          </a:xfrm>
        </p:grpSpPr>
        <p:sp>
          <p:nvSpPr>
            <p:cNvPr id="231" name=""/>
            <p:cNvSpPr/>
            <p:nvPr/>
          </p:nvSpPr>
          <p:spPr>
            <a:xfrm>
              <a:off x="4680" y="0"/>
              <a:ext cx="9151560" cy="75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77"/>
                  </a:moveTo>
                  <a:lnTo>
                    <a:pt x="11" y="0"/>
                  </a:lnTo>
                  <a:lnTo>
                    <a:pt x="21600" y="0"/>
                  </a:lnTo>
                  <a:lnTo>
                    <a:pt x="21600" y="21057"/>
                  </a:lnTo>
                  <a:lnTo>
                    <a:pt x="18069" y="21600"/>
                  </a:lnTo>
                  <a:lnTo>
                    <a:pt x="16214" y="20242"/>
                  </a:lnTo>
                  <a:lnTo>
                    <a:pt x="14179" y="21057"/>
                  </a:lnTo>
                  <a:lnTo>
                    <a:pt x="12807" y="20649"/>
                  </a:lnTo>
                  <a:lnTo>
                    <a:pt x="11143" y="20785"/>
                  </a:lnTo>
                  <a:lnTo>
                    <a:pt x="9186" y="20513"/>
                  </a:lnTo>
                  <a:lnTo>
                    <a:pt x="8579" y="19970"/>
                  </a:lnTo>
                  <a:lnTo>
                    <a:pt x="7534" y="20513"/>
                  </a:lnTo>
                  <a:lnTo>
                    <a:pt x="6848" y="20377"/>
                  </a:lnTo>
                  <a:lnTo>
                    <a:pt x="4554" y="21057"/>
                  </a:lnTo>
                  <a:lnTo>
                    <a:pt x="2474" y="20649"/>
                  </a:lnTo>
                  <a:lnTo>
                    <a:pt x="0" y="20377"/>
                  </a:lnTo>
                  <a:close/>
                  <a:moveTo>
                    <a:pt x="0" y="20377"/>
                  </a:moveTo>
                </a:path>
              </a:pathLst>
            </a:custGeom>
            <a:solidFill>
              <a:srgbClr val="c7c7df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80" y="165240"/>
              <a:ext cx="392040" cy="380880"/>
            </a:xfrm>
            <a:custGeom>
              <a:avLst/>
              <a:gdLst/>
              <a:ahLst/>
              <a:rect l="l" t="t" r="r" b="b"/>
              <a:pathLst>
                <a:path w="20881" h="20409">
                  <a:moveTo>
                    <a:pt x="675" y="16221"/>
                  </a:moveTo>
                  <a:cubicBezTo>
                    <a:pt x="1350" y="14343"/>
                    <a:pt x="3206" y="12294"/>
                    <a:pt x="5991" y="9818"/>
                  </a:cubicBezTo>
                  <a:cubicBezTo>
                    <a:pt x="8775" y="7342"/>
                    <a:pt x="14597" y="2732"/>
                    <a:pt x="17128" y="1366"/>
                  </a:cubicBezTo>
                  <a:cubicBezTo>
                    <a:pt x="19659" y="0"/>
                    <a:pt x="20756" y="1195"/>
                    <a:pt x="21178" y="1622"/>
                  </a:cubicBezTo>
                  <a:cubicBezTo>
                    <a:pt x="21600" y="2049"/>
                    <a:pt x="21009" y="2988"/>
                    <a:pt x="19913" y="3927"/>
                  </a:cubicBezTo>
                  <a:cubicBezTo>
                    <a:pt x="18816" y="4866"/>
                    <a:pt x="16875" y="5464"/>
                    <a:pt x="14850" y="7001"/>
                  </a:cubicBezTo>
                  <a:cubicBezTo>
                    <a:pt x="12825" y="8538"/>
                    <a:pt x="9956" y="10757"/>
                    <a:pt x="7763" y="13148"/>
                  </a:cubicBezTo>
                  <a:cubicBezTo>
                    <a:pt x="5569" y="15538"/>
                    <a:pt x="3037" y="20575"/>
                    <a:pt x="1941" y="21088"/>
                  </a:cubicBezTo>
                  <a:cubicBezTo>
                    <a:pt x="844" y="21600"/>
                    <a:pt x="0" y="18100"/>
                    <a:pt x="675" y="16221"/>
                  </a:cubicBezTo>
                  <a:close/>
                  <a:moveTo>
                    <a:pt x="675" y="16221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68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329"/>
                  </a:moveTo>
                  <a:lnTo>
                    <a:pt x="0" y="21318"/>
                  </a:lnTo>
                  <a:cubicBezTo>
                    <a:pt x="366" y="20471"/>
                    <a:pt x="1190" y="17224"/>
                    <a:pt x="2197" y="15247"/>
                  </a:cubicBezTo>
                  <a:cubicBezTo>
                    <a:pt x="3203" y="13271"/>
                    <a:pt x="4546" y="11200"/>
                    <a:pt x="6041" y="9459"/>
                  </a:cubicBezTo>
                  <a:cubicBezTo>
                    <a:pt x="7536" y="7718"/>
                    <a:pt x="9488" y="6071"/>
                    <a:pt x="11166" y="4800"/>
                  </a:cubicBezTo>
                  <a:cubicBezTo>
                    <a:pt x="12844" y="3529"/>
                    <a:pt x="14949" y="2494"/>
                    <a:pt x="16200" y="1694"/>
                  </a:cubicBezTo>
                  <a:cubicBezTo>
                    <a:pt x="17451" y="894"/>
                    <a:pt x="17695" y="235"/>
                    <a:pt x="18580" y="0"/>
                  </a:cubicBezTo>
                  <a:lnTo>
                    <a:pt x="21600" y="141"/>
                  </a:lnTo>
                  <a:cubicBezTo>
                    <a:pt x="21508" y="659"/>
                    <a:pt x="19525" y="2118"/>
                    <a:pt x="18031" y="3106"/>
                  </a:cubicBezTo>
                  <a:cubicBezTo>
                    <a:pt x="16536" y="4094"/>
                    <a:pt x="14522" y="4612"/>
                    <a:pt x="12722" y="5929"/>
                  </a:cubicBezTo>
                  <a:cubicBezTo>
                    <a:pt x="10922" y="7247"/>
                    <a:pt x="8756" y="9176"/>
                    <a:pt x="7231" y="10871"/>
                  </a:cubicBezTo>
                  <a:cubicBezTo>
                    <a:pt x="5705" y="12565"/>
                    <a:pt x="4515" y="14447"/>
                    <a:pt x="3569" y="16235"/>
                  </a:cubicBezTo>
                  <a:cubicBezTo>
                    <a:pt x="2624" y="18024"/>
                    <a:pt x="2136" y="20753"/>
                    <a:pt x="1556" y="21600"/>
                  </a:cubicBezTo>
                  <a:lnTo>
                    <a:pt x="0" y="21318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2760" y="426960"/>
              <a:ext cx="385560" cy="300240"/>
            </a:xfrm>
            <a:custGeom>
              <a:avLst/>
              <a:gdLst/>
              <a:ahLst/>
              <a:rect l="l" t="t" r="r" b="b"/>
              <a:pathLst>
                <a:path w="20881" h="20920">
                  <a:moveTo>
                    <a:pt x="1807" y="18148"/>
                  </a:moveTo>
                  <a:cubicBezTo>
                    <a:pt x="861" y="19819"/>
                    <a:pt x="0" y="21600"/>
                    <a:pt x="775" y="20487"/>
                  </a:cubicBezTo>
                  <a:cubicBezTo>
                    <a:pt x="1549" y="19373"/>
                    <a:pt x="4217" y="14363"/>
                    <a:pt x="6454" y="11468"/>
                  </a:cubicBezTo>
                  <a:cubicBezTo>
                    <a:pt x="8692" y="8573"/>
                    <a:pt x="12306" y="4899"/>
                    <a:pt x="14199" y="3118"/>
                  </a:cubicBezTo>
                  <a:cubicBezTo>
                    <a:pt x="16092" y="1336"/>
                    <a:pt x="16695" y="1225"/>
                    <a:pt x="17814" y="779"/>
                  </a:cubicBezTo>
                  <a:cubicBezTo>
                    <a:pt x="18932" y="334"/>
                    <a:pt x="20739" y="0"/>
                    <a:pt x="21170" y="445"/>
                  </a:cubicBezTo>
                  <a:cubicBezTo>
                    <a:pt x="21600" y="891"/>
                    <a:pt x="21256" y="2784"/>
                    <a:pt x="20395" y="3786"/>
                  </a:cubicBezTo>
                  <a:cubicBezTo>
                    <a:pt x="19535" y="4788"/>
                    <a:pt x="17555" y="5122"/>
                    <a:pt x="15748" y="6792"/>
                  </a:cubicBezTo>
                  <a:cubicBezTo>
                    <a:pt x="13941" y="8462"/>
                    <a:pt x="11101" y="11468"/>
                    <a:pt x="9294" y="13806"/>
                  </a:cubicBezTo>
                  <a:cubicBezTo>
                    <a:pt x="7487" y="16144"/>
                    <a:pt x="6110" y="20041"/>
                    <a:pt x="4647" y="21155"/>
                  </a:cubicBezTo>
                  <a:lnTo>
                    <a:pt x="516" y="20487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2880" y="0"/>
              <a:ext cx="247680" cy="106200"/>
            </a:xfrm>
            <a:custGeom>
              <a:avLst/>
              <a:gdLst/>
              <a:ahLst/>
              <a:rect l="l" t="t" r="r" b="b"/>
              <a:pathLst>
                <a:path w="21117" h="20917">
                  <a:moveTo>
                    <a:pt x="13449" y="0"/>
                  </a:moveTo>
                  <a:cubicBezTo>
                    <a:pt x="10189" y="1800"/>
                    <a:pt x="4075" y="7800"/>
                    <a:pt x="2038" y="10800"/>
                  </a:cubicBezTo>
                  <a:cubicBezTo>
                    <a:pt x="0" y="13800"/>
                    <a:pt x="408" y="16500"/>
                    <a:pt x="815" y="18000"/>
                  </a:cubicBezTo>
                  <a:cubicBezTo>
                    <a:pt x="1223" y="19500"/>
                    <a:pt x="3125" y="21600"/>
                    <a:pt x="4891" y="20700"/>
                  </a:cubicBezTo>
                  <a:cubicBezTo>
                    <a:pt x="6657" y="19800"/>
                    <a:pt x="9102" y="15900"/>
                    <a:pt x="11819" y="12600"/>
                  </a:cubicBezTo>
                  <a:cubicBezTo>
                    <a:pt x="14536" y="9300"/>
                    <a:pt x="21464" y="1800"/>
                    <a:pt x="21600" y="0"/>
                  </a:cubicBezTo>
                  <a:lnTo>
                    <a:pt x="13449" y="0"/>
                  </a:lnTo>
                  <a:close/>
                  <a:moveTo>
                    <a:pt x="13449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4720" y="0"/>
              <a:ext cx="718920" cy="341280"/>
            </a:xfrm>
            <a:custGeom>
              <a:avLst/>
              <a:gdLst/>
              <a:ahLst/>
              <a:rect l="l" t="t" r="r" b="b"/>
              <a:pathLst>
                <a:path w="21439" h="21525">
                  <a:moveTo>
                    <a:pt x="18752" y="0"/>
                  </a:moveTo>
                  <a:cubicBezTo>
                    <a:pt x="17850" y="800"/>
                    <a:pt x="17280" y="3100"/>
                    <a:pt x="16046" y="4800"/>
                  </a:cubicBezTo>
                  <a:cubicBezTo>
                    <a:pt x="14811" y="6500"/>
                    <a:pt x="13340" y="8600"/>
                    <a:pt x="11488" y="10200"/>
                  </a:cubicBezTo>
                  <a:cubicBezTo>
                    <a:pt x="9637" y="11800"/>
                    <a:pt x="6551" y="13600"/>
                    <a:pt x="4937" y="14700"/>
                  </a:cubicBezTo>
                  <a:cubicBezTo>
                    <a:pt x="3323" y="15800"/>
                    <a:pt x="2421" y="16100"/>
                    <a:pt x="1662" y="16800"/>
                  </a:cubicBezTo>
                  <a:cubicBezTo>
                    <a:pt x="902" y="17500"/>
                    <a:pt x="570" y="18500"/>
                    <a:pt x="380" y="19200"/>
                  </a:cubicBezTo>
                  <a:cubicBezTo>
                    <a:pt x="190" y="19900"/>
                    <a:pt x="0" y="21000"/>
                    <a:pt x="380" y="21300"/>
                  </a:cubicBezTo>
                  <a:cubicBezTo>
                    <a:pt x="760" y="21600"/>
                    <a:pt x="2184" y="21600"/>
                    <a:pt x="2801" y="21300"/>
                  </a:cubicBezTo>
                  <a:cubicBezTo>
                    <a:pt x="3418" y="21000"/>
                    <a:pt x="3181" y="20100"/>
                    <a:pt x="4083" y="19200"/>
                  </a:cubicBezTo>
                  <a:cubicBezTo>
                    <a:pt x="4985" y="18300"/>
                    <a:pt x="6551" y="17000"/>
                    <a:pt x="8213" y="15900"/>
                  </a:cubicBezTo>
                  <a:cubicBezTo>
                    <a:pt x="9874" y="14800"/>
                    <a:pt x="12485" y="14000"/>
                    <a:pt x="14194" y="12600"/>
                  </a:cubicBezTo>
                  <a:cubicBezTo>
                    <a:pt x="15903" y="11200"/>
                    <a:pt x="17375" y="9300"/>
                    <a:pt x="18609" y="7200"/>
                  </a:cubicBezTo>
                  <a:cubicBezTo>
                    <a:pt x="19844" y="5100"/>
                    <a:pt x="21553" y="1200"/>
                    <a:pt x="21600" y="0"/>
                  </a:cubicBezTo>
                  <a:lnTo>
                    <a:pt x="18752" y="0"/>
                  </a:lnTo>
                  <a:close/>
                  <a:moveTo>
                    <a:pt x="18752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720" y="60480"/>
              <a:ext cx="652680" cy="164880"/>
            </a:xfrm>
            <a:custGeom>
              <a:avLst/>
              <a:gdLst/>
              <a:ahLst/>
              <a:rect l="l" t="t" r="r" b="b"/>
              <a:pathLst>
                <a:path w="21525" h="20835">
                  <a:moveTo>
                    <a:pt x="0" y="2200"/>
                  </a:moveTo>
                  <a:lnTo>
                    <a:pt x="1252" y="2200"/>
                  </a:lnTo>
                  <a:cubicBezTo>
                    <a:pt x="2609" y="1800"/>
                    <a:pt x="5843" y="0"/>
                    <a:pt x="8139" y="400"/>
                  </a:cubicBezTo>
                  <a:cubicBezTo>
                    <a:pt x="10435" y="800"/>
                    <a:pt x="13043" y="3000"/>
                    <a:pt x="15026" y="4600"/>
                  </a:cubicBezTo>
                  <a:cubicBezTo>
                    <a:pt x="17009" y="6200"/>
                    <a:pt x="18939" y="8800"/>
                    <a:pt x="20035" y="10600"/>
                  </a:cubicBezTo>
                  <a:cubicBezTo>
                    <a:pt x="21130" y="12400"/>
                    <a:pt x="21287" y="13200"/>
                    <a:pt x="21443" y="14800"/>
                  </a:cubicBezTo>
                  <a:cubicBezTo>
                    <a:pt x="21600" y="16400"/>
                    <a:pt x="21548" y="20000"/>
                    <a:pt x="21130" y="20800"/>
                  </a:cubicBezTo>
                  <a:cubicBezTo>
                    <a:pt x="20713" y="21600"/>
                    <a:pt x="19878" y="21000"/>
                    <a:pt x="18939" y="20200"/>
                  </a:cubicBezTo>
                  <a:cubicBezTo>
                    <a:pt x="18000" y="19400"/>
                    <a:pt x="16957" y="17000"/>
                    <a:pt x="15339" y="15400"/>
                  </a:cubicBezTo>
                  <a:cubicBezTo>
                    <a:pt x="13722" y="13800"/>
                    <a:pt x="11009" y="10600"/>
                    <a:pt x="9078" y="10000"/>
                  </a:cubicBezTo>
                  <a:cubicBezTo>
                    <a:pt x="7148" y="9400"/>
                    <a:pt x="4957" y="12200"/>
                    <a:pt x="3757" y="12400"/>
                  </a:cubicBezTo>
                  <a:cubicBezTo>
                    <a:pt x="2557" y="12600"/>
                    <a:pt x="2504" y="13200"/>
                    <a:pt x="1878" y="11800"/>
                  </a:cubicBezTo>
                  <a:cubicBezTo>
                    <a:pt x="1252" y="10400"/>
                    <a:pt x="678" y="7200"/>
                    <a:pt x="0" y="2200"/>
                  </a:cubicBezTo>
                  <a:close/>
                  <a:moveTo>
                    <a:pt x="0" y="22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51560" y="0"/>
              <a:ext cx="809640" cy="344520"/>
            </a:xfrm>
            <a:custGeom>
              <a:avLst/>
              <a:gdLst/>
              <a:ahLst/>
              <a:rect l="l" t="t" r="r" b="b"/>
              <a:pathLst>
                <a:path w="21195" h="21107">
                  <a:moveTo>
                    <a:pt x="1745" y="0"/>
                  </a:moveTo>
                  <a:cubicBezTo>
                    <a:pt x="997" y="384"/>
                    <a:pt x="0" y="1440"/>
                    <a:pt x="498" y="2304"/>
                  </a:cubicBezTo>
                  <a:cubicBezTo>
                    <a:pt x="997" y="3168"/>
                    <a:pt x="3157" y="3744"/>
                    <a:pt x="4735" y="5184"/>
                  </a:cubicBezTo>
                  <a:cubicBezTo>
                    <a:pt x="6314" y="6624"/>
                    <a:pt x="8432" y="9600"/>
                    <a:pt x="9969" y="11232"/>
                  </a:cubicBezTo>
                  <a:cubicBezTo>
                    <a:pt x="11506" y="12864"/>
                    <a:pt x="12462" y="13056"/>
                    <a:pt x="13832" y="14688"/>
                  </a:cubicBezTo>
                  <a:cubicBezTo>
                    <a:pt x="15203" y="16320"/>
                    <a:pt x="17571" y="20448"/>
                    <a:pt x="18194" y="21024"/>
                  </a:cubicBezTo>
                  <a:cubicBezTo>
                    <a:pt x="18817" y="21600"/>
                    <a:pt x="17695" y="19008"/>
                    <a:pt x="17695" y="18432"/>
                  </a:cubicBezTo>
                  <a:cubicBezTo>
                    <a:pt x="17695" y="17856"/>
                    <a:pt x="17695" y="16896"/>
                    <a:pt x="18318" y="17280"/>
                  </a:cubicBezTo>
                  <a:cubicBezTo>
                    <a:pt x="18942" y="17664"/>
                    <a:pt x="21517" y="21024"/>
                    <a:pt x="21558" y="20736"/>
                  </a:cubicBezTo>
                  <a:cubicBezTo>
                    <a:pt x="21600" y="20448"/>
                    <a:pt x="19648" y="16896"/>
                    <a:pt x="18692" y="15552"/>
                  </a:cubicBezTo>
                  <a:cubicBezTo>
                    <a:pt x="17737" y="14208"/>
                    <a:pt x="16948" y="14208"/>
                    <a:pt x="15826" y="12960"/>
                  </a:cubicBezTo>
                  <a:cubicBezTo>
                    <a:pt x="14705" y="11712"/>
                    <a:pt x="13209" y="9984"/>
                    <a:pt x="11838" y="8064"/>
                  </a:cubicBezTo>
                  <a:cubicBezTo>
                    <a:pt x="10468" y="6144"/>
                    <a:pt x="8848" y="3072"/>
                    <a:pt x="7726" y="1728"/>
                  </a:cubicBezTo>
                  <a:cubicBezTo>
                    <a:pt x="6605" y="384"/>
                    <a:pt x="6106" y="192"/>
                    <a:pt x="5109" y="0"/>
                  </a:cubicBezTo>
                  <a:lnTo>
                    <a:pt x="1745" y="0"/>
                  </a:lnTo>
                  <a:close/>
                  <a:moveTo>
                    <a:pt x="1745" y="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83040" y="246240"/>
              <a:ext cx="677880" cy="368280"/>
            </a:xfrm>
            <a:custGeom>
              <a:avLst/>
              <a:gdLst/>
              <a:ahLst/>
              <a:rect l="l" t="t" r="r" b="b"/>
              <a:pathLst>
                <a:path w="21380" h="21433">
                  <a:moveTo>
                    <a:pt x="301" y="3523"/>
                  </a:moveTo>
                  <a:cubicBezTo>
                    <a:pt x="0" y="2410"/>
                    <a:pt x="150" y="2410"/>
                    <a:pt x="451" y="1854"/>
                  </a:cubicBezTo>
                  <a:cubicBezTo>
                    <a:pt x="752" y="1298"/>
                    <a:pt x="1453" y="0"/>
                    <a:pt x="2105" y="185"/>
                  </a:cubicBezTo>
                  <a:cubicBezTo>
                    <a:pt x="2756" y="371"/>
                    <a:pt x="3308" y="1947"/>
                    <a:pt x="4510" y="3245"/>
                  </a:cubicBezTo>
                  <a:cubicBezTo>
                    <a:pt x="5713" y="4542"/>
                    <a:pt x="7818" y="6675"/>
                    <a:pt x="9472" y="8251"/>
                  </a:cubicBezTo>
                  <a:cubicBezTo>
                    <a:pt x="11126" y="9827"/>
                    <a:pt x="12880" y="11681"/>
                    <a:pt x="14433" y="12979"/>
                  </a:cubicBezTo>
                  <a:cubicBezTo>
                    <a:pt x="15987" y="14276"/>
                    <a:pt x="17891" y="15760"/>
                    <a:pt x="18794" y="16316"/>
                  </a:cubicBezTo>
                  <a:cubicBezTo>
                    <a:pt x="19696" y="16872"/>
                    <a:pt x="19395" y="15760"/>
                    <a:pt x="19846" y="16316"/>
                  </a:cubicBezTo>
                  <a:cubicBezTo>
                    <a:pt x="20297" y="16872"/>
                    <a:pt x="21400" y="18819"/>
                    <a:pt x="21500" y="19653"/>
                  </a:cubicBezTo>
                  <a:cubicBezTo>
                    <a:pt x="21600" y="20488"/>
                    <a:pt x="21249" y="21600"/>
                    <a:pt x="20447" y="21600"/>
                  </a:cubicBezTo>
                  <a:cubicBezTo>
                    <a:pt x="19645" y="21600"/>
                    <a:pt x="18543" y="21044"/>
                    <a:pt x="16689" y="19653"/>
                  </a:cubicBezTo>
                  <a:cubicBezTo>
                    <a:pt x="14834" y="18263"/>
                    <a:pt x="11727" y="15482"/>
                    <a:pt x="9322" y="13257"/>
                  </a:cubicBezTo>
                  <a:cubicBezTo>
                    <a:pt x="6916" y="11032"/>
                    <a:pt x="3909" y="7973"/>
                    <a:pt x="2406" y="6304"/>
                  </a:cubicBezTo>
                  <a:cubicBezTo>
                    <a:pt x="902" y="4635"/>
                    <a:pt x="601" y="4635"/>
                    <a:pt x="301" y="3523"/>
                  </a:cubicBezTo>
                  <a:close/>
                  <a:moveTo>
                    <a:pt x="301" y="3523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89560" y="141120"/>
              <a:ext cx="611280" cy="352440"/>
            </a:xfrm>
            <a:custGeom>
              <a:avLst/>
              <a:gdLst/>
              <a:ahLst/>
              <a:rect l="l" t="t" r="r" b="b"/>
              <a:pathLst>
                <a:path w="21004" h="21173">
                  <a:moveTo>
                    <a:pt x="109" y="856"/>
                  </a:moveTo>
                  <a:cubicBezTo>
                    <a:pt x="218" y="1713"/>
                    <a:pt x="1309" y="4282"/>
                    <a:pt x="2891" y="6280"/>
                  </a:cubicBezTo>
                  <a:cubicBezTo>
                    <a:pt x="4473" y="8278"/>
                    <a:pt x="7418" y="10562"/>
                    <a:pt x="9600" y="12560"/>
                  </a:cubicBezTo>
                  <a:cubicBezTo>
                    <a:pt x="11782" y="14559"/>
                    <a:pt x="14509" y="16557"/>
                    <a:pt x="15982" y="17984"/>
                  </a:cubicBezTo>
                  <a:cubicBezTo>
                    <a:pt x="17455" y="19411"/>
                    <a:pt x="17836" y="20648"/>
                    <a:pt x="18600" y="21124"/>
                  </a:cubicBezTo>
                  <a:cubicBezTo>
                    <a:pt x="19364" y="21600"/>
                    <a:pt x="20236" y="21505"/>
                    <a:pt x="20564" y="20839"/>
                  </a:cubicBezTo>
                  <a:cubicBezTo>
                    <a:pt x="20891" y="20173"/>
                    <a:pt x="21600" y="18555"/>
                    <a:pt x="20564" y="17128"/>
                  </a:cubicBezTo>
                  <a:cubicBezTo>
                    <a:pt x="19527" y="15700"/>
                    <a:pt x="16582" y="13988"/>
                    <a:pt x="14182" y="11989"/>
                  </a:cubicBezTo>
                  <a:cubicBezTo>
                    <a:pt x="11782" y="9991"/>
                    <a:pt x="8127" y="6661"/>
                    <a:pt x="6164" y="4853"/>
                  </a:cubicBezTo>
                  <a:cubicBezTo>
                    <a:pt x="4200" y="3045"/>
                    <a:pt x="3273" y="1618"/>
                    <a:pt x="2236" y="856"/>
                  </a:cubicBezTo>
                  <a:cubicBezTo>
                    <a:pt x="1200" y="95"/>
                    <a:pt x="0" y="0"/>
                    <a:pt x="109" y="856"/>
                  </a:cubicBezTo>
                  <a:close/>
                  <a:moveTo>
                    <a:pt x="109" y="856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594240" y="390600"/>
              <a:ext cx="798480" cy="336600"/>
            </a:xfrm>
            <a:custGeom>
              <a:avLst/>
              <a:gdLst/>
              <a:ahLst/>
              <a:rect l="l" t="t" r="r" b="b"/>
              <a:pathLst>
                <a:path w="21032" h="20663">
                  <a:moveTo>
                    <a:pt x="126" y="969"/>
                  </a:moveTo>
                  <a:cubicBezTo>
                    <a:pt x="0" y="1937"/>
                    <a:pt x="2721" y="6683"/>
                    <a:pt x="4395" y="9396"/>
                  </a:cubicBezTo>
                  <a:cubicBezTo>
                    <a:pt x="6070" y="12108"/>
                    <a:pt x="8414" y="15304"/>
                    <a:pt x="10172" y="17241"/>
                  </a:cubicBezTo>
                  <a:cubicBezTo>
                    <a:pt x="11930" y="19178"/>
                    <a:pt x="13186" y="20438"/>
                    <a:pt x="14944" y="21019"/>
                  </a:cubicBezTo>
                  <a:cubicBezTo>
                    <a:pt x="16702" y="21600"/>
                    <a:pt x="20093" y="21213"/>
                    <a:pt x="20847" y="20728"/>
                  </a:cubicBezTo>
                  <a:cubicBezTo>
                    <a:pt x="21600" y="20244"/>
                    <a:pt x="20888" y="19372"/>
                    <a:pt x="19591" y="18113"/>
                  </a:cubicBezTo>
                  <a:cubicBezTo>
                    <a:pt x="18293" y="16854"/>
                    <a:pt x="15321" y="15595"/>
                    <a:pt x="12935" y="13173"/>
                  </a:cubicBezTo>
                  <a:cubicBezTo>
                    <a:pt x="10549" y="10752"/>
                    <a:pt x="7200" y="5230"/>
                    <a:pt x="5149" y="3293"/>
                  </a:cubicBezTo>
                  <a:cubicBezTo>
                    <a:pt x="3098" y="1356"/>
                    <a:pt x="251" y="0"/>
                    <a:pt x="126" y="969"/>
                  </a:cubicBezTo>
                  <a:close/>
                  <a:moveTo>
                    <a:pt x="126" y="969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21440" y="514440"/>
              <a:ext cx="647640" cy="153720"/>
            </a:xfrm>
            <a:custGeom>
              <a:avLst/>
              <a:gdLst/>
              <a:ahLst/>
              <a:rect l="l" t="t" r="r" b="b"/>
              <a:pathLst>
                <a:path w="21259" h="21457">
                  <a:moveTo>
                    <a:pt x="3600" y="12960"/>
                  </a:moveTo>
                  <a:cubicBezTo>
                    <a:pt x="2035" y="11232"/>
                    <a:pt x="1200" y="10584"/>
                    <a:pt x="626" y="9072"/>
                  </a:cubicBezTo>
                  <a:cubicBezTo>
                    <a:pt x="52" y="7560"/>
                    <a:pt x="0" y="4752"/>
                    <a:pt x="157" y="3240"/>
                  </a:cubicBezTo>
                  <a:cubicBezTo>
                    <a:pt x="313" y="1728"/>
                    <a:pt x="574" y="0"/>
                    <a:pt x="1565" y="0"/>
                  </a:cubicBezTo>
                  <a:cubicBezTo>
                    <a:pt x="2557" y="0"/>
                    <a:pt x="4278" y="2160"/>
                    <a:pt x="6104" y="3888"/>
                  </a:cubicBezTo>
                  <a:cubicBezTo>
                    <a:pt x="7930" y="5616"/>
                    <a:pt x="10330" y="9288"/>
                    <a:pt x="12678" y="10368"/>
                  </a:cubicBezTo>
                  <a:cubicBezTo>
                    <a:pt x="15026" y="11448"/>
                    <a:pt x="18783" y="10152"/>
                    <a:pt x="20191" y="10368"/>
                  </a:cubicBezTo>
                  <a:cubicBezTo>
                    <a:pt x="21600" y="10584"/>
                    <a:pt x="21339" y="10368"/>
                    <a:pt x="21287" y="11664"/>
                  </a:cubicBezTo>
                  <a:cubicBezTo>
                    <a:pt x="21235" y="12960"/>
                    <a:pt x="20661" y="17280"/>
                    <a:pt x="19878" y="18792"/>
                  </a:cubicBezTo>
                  <a:cubicBezTo>
                    <a:pt x="19096" y="20304"/>
                    <a:pt x="18209" y="21168"/>
                    <a:pt x="16591" y="21384"/>
                  </a:cubicBezTo>
                  <a:cubicBezTo>
                    <a:pt x="14974" y="21600"/>
                    <a:pt x="12365" y="21384"/>
                    <a:pt x="10174" y="20088"/>
                  </a:cubicBezTo>
                  <a:cubicBezTo>
                    <a:pt x="7983" y="18792"/>
                    <a:pt x="5165" y="14688"/>
                    <a:pt x="3600" y="12960"/>
                  </a:cubicBezTo>
                  <a:close/>
                  <a:moveTo>
                    <a:pt x="3600" y="129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22000" y="592200"/>
              <a:ext cx="237960" cy="111240"/>
            </a:xfrm>
            <a:custGeom>
              <a:avLst/>
              <a:gdLst/>
              <a:ahLst/>
              <a:rect l="l" t="t" r="r" b="b"/>
              <a:pathLst>
                <a:path w="21600" h="20923">
                  <a:moveTo>
                    <a:pt x="432" y="20100"/>
                  </a:moveTo>
                  <a:cubicBezTo>
                    <a:pt x="2304" y="17700"/>
                    <a:pt x="9216" y="9000"/>
                    <a:pt x="12096" y="5700"/>
                  </a:cubicBezTo>
                  <a:cubicBezTo>
                    <a:pt x="14976" y="2400"/>
                    <a:pt x="16128" y="0"/>
                    <a:pt x="17712" y="300"/>
                  </a:cubicBezTo>
                  <a:cubicBezTo>
                    <a:pt x="19296" y="600"/>
                    <a:pt x="21600" y="3900"/>
                    <a:pt x="21600" y="6600"/>
                  </a:cubicBezTo>
                  <a:cubicBezTo>
                    <a:pt x="21600" y="9300"/>
                    <a:pt x="19152" y="14100"/>
                    <a:pt x="17712" y="16500"/>
                  </a:cubicBezTo>
                  <a:cubicBezTo>
                    <a:pt x="16272" y="18900"/>
                    <a:pt x="15840" y="20400"/>
                    <a:pt x="12960" y="21000"/>
                  </a:cubicBezTo>
                  <a:cubicBezTo>
                    <a:pt x="10080" y="21600"/>
                    <a:pt x="5040" y="20700"/>
                    <a:pt x="0" y="20100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95040" y="422280"/>
              <a:ext cx="223920" cy="142920"/>
            </a:xfrm>
            <a:custGeom>
              <a:avLst/>
              <a:gdLst/>
              <a:ahLst/>
              <a:rect l="l" t="t" r="r" b="b"/>
              <a:pathLst>
                <a:path w="20577" h="21046">
                  <a:moveTo>
                    <a:pt x="146" y="16378"/>
                  </a:moveTo>
                  <a:cubicBezTo>
                    <a:pt x="292" y="14954"/>
                    <a:pt x="1314" y="14479"/>
                    <a:pt x="3649" y="12105"/>
                  </a:cubicBezTo>
                  <a:cubicBezTo>
                    <a:pt x="5984" y="9732"/>
                    <a:pt x="11968" y="4035"/>
                    <a:pt x="14595" y="2136"/>
                  </a:cubicBezTo>
                  <a:cubicBezTo>
                    <a:pt x="17222" y="237"/>
                    <a:pt x="18535" y="0"/>
                    <a:pt x="19411" y="712"/>
                  </a:cubicBezTo>
                  <a:cubicBezTo>
                    <a:pt x="20286" y="1424"/>
                    <a:pt x="21600" y="3560"/>
                    <a:pt x="19849" y="6409"/>
                  </a:cubicBezTo>
                  <a:cubicBezTo>
                    <a:pt x="18097" y="9257"/>
                    <a:pt x="11676" y="15429"/>
                    <a:pt x="8903" y="17802"/>
                  </a:cubicBezTo>
                  <a:cubicBezTo>
                    <a:pt x="6130" y="20176"/>
                    <a:pt x="4232" y="21600"/>
                    <a:pt x="2773" y="21363"/>
                  </a:cubicBezTo>
                  <a:cubicBezTo>
                    <a:pt x="1314" y="21125"/>
                    <a:pt x="0" y="17802"/>
                    <a:pt x="146" y="16378"/>
                  </a:cubicBezTo>
                  <a:close/>
                  <a:moveTo>
                    <a:pt x="146" y="16378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85480" y="90360"/>
              <a:ext cx="1465200" cy="246240"/>
            </a:xfrm>
            <a:custGeom>
              <a:avLst/>
              <a:gdLst/>
              <a:ahLst/>
              <a:rect l="l" t="t" r="r" b="b"/>
              <a:pathLst>
                <a:path w="21257" h="21052">
                  <a:moveTo>
                    <a:pt x="3961" y="11757"/>
                  </a:moveTo>
                  <a:cubicBezTo>
                    <a:pt x="3270" y="13534"/>
                    <a:pt x="2003" y="17225"/>
                    <a:pt x="1405" y="18729"/>
                  </a:cubicBezTo>
                  <a:cubicBezTo>
                    <a:pt x="806" y="20233"/>
                    <a:pt x="576" y="21600"/>
                    <a:pt x="368" y="21190"/>
                  </a:cubicBezTo>
                  <a:cubicBezTo>
                    <a:pt x="161" y="20780"/>
                    <a:pt x="0" y="18319"/>
                    <a:pt x="161" y="16678"/>
                  </a:cubicBezTo>
                  <a:cubicBezTo>
                    <a:pt x="322" y="15038"/>
                    <a:pt x="714" y="12851"/>
                    <a:pt x="1336" y="10937"/>
                  </a:cubicBezTo>
                  <a:cubicBezTo>
                    <a:pt x="1957" y="9023"/>
                    <a:pt x="3017" y="6699"/>
                    <a:pt x="3961" y="5195"/>
                  </a:cubicBezTo>
                  <a:cubicBezTo>
                    <a:pt x="4905" y="3691"/>
                    <a:pt x="5895" y="2324"/>
                    <a:pt x="7000" y="1504"/>
                  </a:cubicBezTo>
                  <a:cubicBezTo>
                    <a:pt x="8106" y="684"/>
                    <a:pt x="9418" y="0"/>
                    <a:pt x="10662" y="273"/>
                  </a:cubicBezTo>
                  <a:cubicBezTo>
                    <a:pt x="11905" y="547"/>
                    <a:pt x="13264" y="2051"/>
                    <a:pt x="14530" y="3144"/>
                  </a:cubicBezTo>
                  <a:cubicBezTo>
                    <a:pt x="15797" y="4238"/>
                    <a:pt x="17524" y="6699"/>
                    <a:pt x="18330" y="7246"/>
                  </a:cubicBezTo>
                  <a:cubicBezTo>
                    <a:pt x="19136" y="7792"/>
                    <a:pt x="18952" y="6015"/>
                    <a:pt x="19366" y="6425"/>
                  </a:cubicBezTo>
                  <a:cubicBezTo>
                    <a:pt x="19781" y="6835"/>
                    <a:pt x="20587" y="8476"/>
                    <a:pt x="20886" y="9706"/>
                  </a:cubicBezTo>
                  <a:cubicBezTo>
                    <a:pt x="21186" y="10937"/>
                    <a:pt x="21600" y="13261"/>
                    <a:pt x="21162" y="13808"/>
                  </a:cubicBezTo>
                  <a:cubicBezTo>
                    <a:pt x="20725" y="14354"/>
                    <a:pt x="19343" y="14218"/>
                    <a:pt x="18261" y="13397"/>
                  </a:cubicBezTo>
                  <a:cubicBezTo>
                    <a:pt x="17179" y="12577"/>
                    <a:pt x="15958" y="9843"/>
                    <a:pt x="14600" y="8476"/>
                  </a:cubicBezTo>
                  <a:cubicBezTo>
                    <a:pt x="13241" y="7109"/>
                    <a:pt x="11629" y="5195"/>
                    <a:pt x="10109" y="5195"/>
                  </a:cubicBezTo>
                  <a:cubicBezTo>
                    <a:pt x="8589" y="5195"/>
                    <a:pt x="6540" y="6972"/>
                    <a:pt x="5481" y="8066"/>
                  </a:cubicBezTo>
                  <a:cubicBezTo>
                    <a:pt x="4421" y="9159"/>
                    <a:pt x="4652" y="9980"/>
                    <a:pt x="3961" y="11757"/>
                  </a:cubicBezTo>
                  <a:close/>
                  <a:moveTo>
                    <a:pt x="3961" y="1175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48920" y="231840"/>
              <a:ext cx="590760" cy="149040"/>
            </a:xfrm>
            <a:custGeom>
              <a:avLst/>
              <a:gdLst/>
              <a:ahLst/>
              <a:rect l="l" t="t" r="r" b="b"/>
              <a:pathLst>
                <a:path w="21600" h="20810">
                  <a:moveTo>
                    <a:pt x="1045" y="10359"/>
                  </a:moveTo>
                  <a:cubicBezTo>
                    <a:pt x="3484" y="7935"/>
                    <a:pt x="5981" y="5510"/>
                    <a:pt x="8187" y="3747"/>
                  </a:cubicBezTo>
                  <a:cubicBezTo>
                    <a:pt x="10394" y="1984"/>
                    <a:pt x="12252" y="882"/>
                    <a:pt x="14284" y="441"/>
                  </a:cubicBezTo>
                  <a:cubicBezTo>
                    <a:pt x="16316" y="0"/>
                    <a:pt x="19161" y="220"/>
                    <a:pt x="20381" y="1102"/>
                  </a:cubicBezTo>
                  <a:cubicBezTo>
                    <a:pt x="21600" y="1984"/>
                    <a:pt x="21600" y="3747"/>
                    <a:pt x="21600" y="5069"/>
                  </a:cubicBezTo>
                  <a:cubicBezTo>
                    <a:pt x="21600" y="6392"/>
                    <a:pt x="21600" y="8816"/>
                    <a:pt x="20555" y="9698"/>
                  </a:cubicBezTo>
                  <a:cubicBezTo>
                    <a:pt x="19510" y="10580"/>
                    <a:pt x="17129" y="10800"/>
                    <a:pt x="15329" y="11020"/>
                  </a:cubicBezTo>
                  <a:cubicBezTo>
                    <a:pt x="13529" y="11241"/>
                    <a:pt x="11613" y="10800"/>
                    <a:pt x="9755" y="11682"/>
                  </a:cubicBezTo>
                  <a:cubicBezTo>
                    <a:pt x="7897" y="12563"/>
                    <a:pt x="5690" y="15429"/>
                    <a:pt x="4181" y="16971"/>
                  </a:cubicBezTo>
                  <a:cubicBezTo>
                    <a:pt x="2671" y="18514"/>
                    <a:pt x="1568" y="21600"/>
                    <a:pt x="871" y="20939"/>
                  </a:cubicBezTo>
                  <a:cubicBezTo>
                    <a:pt x="174" y="20278"/>
                    <a:pt x="58" y="16310"/>
                    <a:pt x="0" y="12343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40920" y="487440"/>
              <a:ext cx="495360" cy="252360"/>
            </a:xfrm>
            <a:custGeom>
              <a:avLst/>
              <a:gdLst/>
              <a:ahLst/>
              <a:rect l="l" t="t" r="r" b="b"/>
              <a:pathLst>
                <a:path w="21243" h="21397">
                  <a:moveTo>
                    <a:pt x="0" y="21600"/>
                  </a:moveTo>
                  <a:lnTo>
                    <a:pt x="815" y="18729"/>
                  </a:lnTo>
                  <a:cubicBezTo>
                    <a:pt x="2649" y="16815"/>
                    <a:pt x="8287" y="12304"/>
                    <a:pt x="11004" y="9706"/>
                  </a:cubicBezTo>
                  <a:cubicBezTo>
                    <a:pt x="13721" y="7109"/>
                    <a:pt x="15555" y="4238"/>
                    <a:pt x="16913" y="2734"/>
                  </a:cubicBezTo>
                  <a:cubicBezTo>
                    <a:pt x="18272" y="1230"/>
                    <a:pt x="18679" y="547"/>
                    <a:pt x="19358" y="273"/>
                  </a:cubicBezTo>
                  <a:cubicBezTo>
                    <a:pt x="20038" y="0"/>
                    <a:pt x="20785" y="547"/>
                    <a:pt x="20989" y="1504"/>
                  </a:cubicBezTo>
                  <a:cubicBezTo>
                    <a:pt x="21192" y="2461"/>
                    <a:pt x="21600" y="4648"/>
                    <a:pt x="20581" y="6425"/>
                  </a:cubicBezTo>
                  <a:cubicBezTo>
                    <a:pt x="19562" y="8203"/>
                    <a:pt x="17117" y="10116"/>
                    <a:pt x="14875" y="12167"/>
                  </a:cubicBezTo>
                  <a:cubicBezTo>
                    <a:pt x="12634" y="14218"/>
                    <a:pt x="9170" y="17772"/>
                    <a:pt x="7336" y="19139"/>
                  </a:cubicBezTo>
                  <a:cubicBezTo>
                    <a:pt x="5502" y="20506"/>
                    <a:pt x="5026" y="20506"/>
                    <a:pt x="3872" y="20780"/>
                  </a:cubicBezTo>
                  <a:cubicBezTo>
                    <a:pt x="2717" y="21053"/>
                    <a:pt x="1562" y="21053"/>
                    <a:pt x="0" y="21600"/>
                  </a:cubicBez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15480" y="461880"/>
              <a:ext cx="598680" cy="276480"/>
            </a:xfrm>
            <a:custGeom>
              <a:avLst/>
              <a:gdLst/>
              <a:ahLst/>
              <a:rect l="l" t="t" r="r" b="b"/>
              <a:pathLst>
                <a:path w="21500" h="21600">
                  <a:moveTo>
                    <a:pt x="171" y="20483"/>
                  </a:moveTo>
                  <a:cubicBezTo>
                    <a:pt x="1364" y="18993"/>
                    <a:pt x="4888" y="14276"/>
                    <a:pt x="7333" y="11545"/>
                  </a:cubicBezTo>
                  <a:cubicBezTo>
                    <a:pt x="9777" y="8814"/>
                    <a:pt x="12733" y="5586"/>
                    <a:pt x="14836" y="3724"/>
                  </a:cubicBezTo>
                  <a:cubicBezTo>
                    <a:pt x="16939" y="1862"/>
                    <a:pt x="18872" y="0"/>
                    <a:pt x="19952" y="0"/>
                  </a:cubicBezTo>
                  <a:cubicBezTo>
                    <a:pt x="21032" y="0"/>
                    <a:pt x="21600" y="2359"/>
                    <a:pt x="21486" y="3352"/>
                  </a:cubicBezTo>
                  <a:cubicBezTo>
                    <a:pt x="21373" y="4345"/>
                    <a:pt x="19895" y="5710"/>
                    <a:pt x="19099" y="6331"/>
                  </a:cubicBezTo>
                  <a:cubicBezTo>
                    <a:pt x="18303" y="6952"/>
                    <a:pt x="17451" y="6952"/>
                    <a:pt x="16541" y="7448"/>
                  </a:cubicBezTo>
                  <a:cubicBezTo>
                    <a:pt x="15632" y="7945"/>
                    <a:pt x="14608" y="8069"/>
                    <a:pt x="13642" y="9310"/>
                  </a:cubicBezTo>
                  <a:cubicBezTo>
                    <a:pt x="12676" y="10552"/>
                    <a:pt x="12051" y="12910"/>
                    <a:pt x="10743" y="14897"/>
                  </a:cubicBezTo>
                  <a:cubicBezTo>
                    <a:pt x="9436" y="16883"/>
                    <a:pt x="7560" y="20731"/>
                    <a:pt x="5798" y="21600"/>
                  </a:cubicBezTo>
                  <a:lnTo>
                    <a:pt x="0" y="20110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38040" y="301680"/>
              <a:ext cx="807840" cy="102960"/>
            </a:xfrm>
            <a:custGeom>
              <a:avLst/>
              <a:gdLst/>
              <a:ahLst/>
              <a:rect l="l" t="t" r="r" b="b"/>
              <a:pathLst>
                <a:path w="20988" h="20094">
                  <a:moveTo>
                    <a:pt x="3469" y="3443"/>
                  </a:moveTo>
                  <a:cubicBezTo>
                    <a:pt x="2685" y="2817"/>
                    <a:pt x="1652" y="313"/>
                    <a:pt x="1115" y="1565"/>
                  </a:cubicBezTo>
                  <a:cubicBezTo>
                    <a:pt x="578" y="2817"/>
                    <a:pt x="0" y="8452"/>
                    <a:pt x="372" y="10957"/>
                  </a:cubicBezTo>
                  <a:cubicBezTo>
                    <a:pt x="743" y="13461"/>
                    <a:pt x="1652" y="15965"/>
                    <a:pt x="3345" y="17530"/>
                  </a:cubicBezTo>
                  <a:cubicBezTo>
                    <a:pt x="5039" y="19096"/>
                    <a:pt x="8136" y="21600"/>
                    <a:pt x="10532" y="21287"/>
                  </a:cubicBezTo>
                  <a:cubicBezTo>
                    <a:pt x="12927" y="20974"/>
                    <a:pt x="16066" y="18783"/>
                    <a:pt x="17842" y="15652"/>
                  </a:cubicBezTo>
                  <a:cubicBezTo>
                    <a:pt x="19618" y="12522"/>
                    <a:pt x="21600" y="3130"/>
                    <a:pt x="21187" y="1565"/>
                  </a:cubicBezTo>
                  <a:cubicBezTo>
                    <a:pt x="20774" y="0"/>
                    <a:pt x="17924" y="5948"/>
                    <a:pt x="15364" y="6261"/>
                  </a:cubicBezTo>
                  <a:cubicBezTo>
                    <a:pt x="12803" y="6574"/>
                    <a:pt x="7806" y="4696"/>
                    <a:pt x="5823" y="4383"/>
                  </a:cubicBezTo>
                  <a:cubicBezTo>
                    <a:pt x="3841" y="4070"/>
                    <a:pt x="4254" y="4070"/>
                    <a:pt x="3469" y="3443"/>
                  </a:cubicBezTo>
                  <a:close/>
                  <a:moveTo>
                    <a:pt x="3469" y="3443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463880" y="297000"/>
              <a:ext cx="825480" cy="188640"/>
            </a:xfrm>
            <a:custGeom>
              <a:avLst/>
              <a:gdLst/>
              <a:ahLst/>
              <a:rect l="l" t="t" r="r" b="b"/>
              <a:pathLst>
                <a:path w="20920" h="21415">
                  <a:moveTo>
                    <a:pt x="925" y="1080"/>
                  </a:moveTo>
                  <a:cubicBezTo>
                    <a:pt x="1850" y="0"/>
                    <a:pt x="5551" y="0"/>
                    <a:pt x="7562" y="540"/>
                  </a:cubicBezTo>
                  <a:cubicBezTo>
                    <a:pt x="9573" y="1080"/>
                    <a:pt x="11142" y="2880"/>
                    <a:pt x="12992" y="4860"/>
                  </a:cubicBezTo>
                  <a:cubicBezTo>
                    <a:pt x="14842" y="6840"/>
                    <a:pt x="17336" y="10620"/>
                    <a:pt x="18664" y="12420"/>
                  </a:cubicBezTo>
                  <a:cubicBezTo>
                    <a:pt x="19991" y="14220"/>
                    <a:pt x="20474" y="15120"/>
                    <a:pt x="20956" y="16200"/>
                  </a:cubicBezTo>
                  <a:cubicBezTo>
                    <a:pt x="21439" y="17280"/>
                    <a:pt x="21600" y="18000"/>
                    <a:pt x="21439" y="18900"/>
                  </a:cubicBezTo>
                  <a:cubicBezTo>
                    <a:pt x="21278" y="19800"/>
                    <a:pt x="20514" y="21600"/>
                    <a:pt x="19991" y="21600"/>
                  </a:cubicBezTo>
                  <a:cubicBezTo>
                    <a:pt x="19468" y="21600"/>
                    <a:pt x="19146" y="20880"/>
                    <a:pt x="18181" y="19440"/>
                  </a:cubicBezTo>
                  <a:cubicBezTo>
                    <a:pt x="17216" y="18000"/>
                    <a:pt x="16049" y="15120"/>
                    <a:pt x="14078" y="12960"/>
                  </a:cubicBezTo>
                  <a:cubicBezTo>
                    <a:pt x="12107" y="10800"/>
                    <a:pt x="8366" y="8100"/>
                    <a:pt x="6355" y="7020"/>
                  </a:cubicBezTo>
                  <a:cubicBezTo>
                    <a:pt x="4344" y="5940"/>
                    <a:pt x="2896" y="7740"/>
                    <a:pt x="2011" y="7020"/>
                  </a:cubicBezTo>
                  <a:cubicBezTo>
                    <a:pt x="1126" y="6300"/>
                    <a:pt x="0" y="2160"/>
                    <a:pt x="925" y="1080"/>
                  </a:cubicBezTo>
                  <a:close/>
                  <a:moveTo>
                    <a:pt x="925" y="1080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4080" y="498600"/>
              <a:ext cx="1262160" cy="217440"/>
            </a:xfrm>
            <a:custGeom>
              <a:avLst/>
              <a:gdLst/>
              <a:ahLst/>
              <a:rect l="l" t="t" r="r" b="b"/>
              <a:pathLst>
                <a:path w="21434" h="20472">
                  <a:moveTo>
                    <a:pt x="21600" y="3625"/>
                  </a:moveTo>
                  <a:lnTo>
                    <a:pt x="21114" y="2266"/>
                  </a:lnTo>
                  <a:cubicBezTo>
                    <a:pt x="20493" y="3172"/>
                    <a:pt x="19062" y="7703"/>
                    <a:pt x="17793" y="9516"/>
                  </a:cubicBezTo>
                  <a:cubicBezTo>
                    <a:pt x="16524" y="11329"/>
                    <a:pt x="14985" y="12537"/>
                    <a:pt x="13500" y="12688"/>
                  </a:cubicBezTo>
                  <a:cubicBezTo>
                    <a:pt x="12015" y="12839"/>
                    <a:pt x="10611" y="11933"/>
                    <a:pt x="8802" y="10422"/>
                  </a:cubicBezTo>
                  <a:cubicBezTo>
                    <a:pt x="6993" y="8912"/>
                    <a:pt x="4050" y="4683"/>
                    <a:pt x="2646" y="3172"/>
                  </a:cubicBezTo>
                  <a:cubicBezTo>
                    <a:pt x="1242" y="1662"/>
                    <a:pt x="594" y="0"/>
                    <a:pt x="297" y="906"/>
                  </a:cubicBezTo>
                  <a:cubicBezTo>
                    <a:pt x="0" y="1813"/>
                    <a:pt x="216" y="6797"/>
                    <a:pt x="864" y="9063"/>
                  </a:cubicBezTo>
                  <a:cubicBezTo>
                    <a:pt x="1512" y="11329"/>
                    <a:pt x="2484" y="12537"/>
                    <a:pt x="4185" y="14501"/>
                  </a:cubicBezTo>
                  <a:cubicBezTo>
                    <a:pt x="5886" y="16464"/>
                    <a:pt x="9099" y="20090"/>
                    <a:pt x="11070" y="20845"/>
                  </a:cubicBezTo>
                  <a:cubicBezTo>
                    <a:pt x="13041" y="21600"/>
                    <a:pt x="14634" y="20694"/>
                    <a:pt x="16092" y="19485"/>
                  </a:cubicBezTo>
                  <a:cubicBezTo>
                    <a:pt x="17550" y="18277"/>
                    <a:pt x="19035" y="15105"/>
                    <a:pt x="19899" y="13594"/>
                  </a:cubicBezTo>
                  <a:cubicBezTo>
                    <a:pt x="20763" y="12084"/>
                    <a:pt x="21060" y="12084"/>
                    <a:pt x="21276" y="10422"/>
                  </a:cubicBezTo>
                  <a:cubicBezTo>
                    <a:pt x="21492" y="8761"/>
                    <a:pt x="21384" y="5891"/>
                    <a:pt x="21600" y="3625"/>
                  </a:cubicBezTo>
                  <a:close/>
                  <a:moveTo>
                    <a:pt x="21600" y="3625"/>
                  </a:move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41640" y="379440"/>
              <a:ext cx="636840" cy="174600"/>
            </a:xfrm>
            <a:custGeom>
              <a:avLst/>
              <a:gdLst/>
              <a:ahLst/>
              <a:rect l="l" t="t" r="r" b="b"/>
              <a:pathLst>
                <a:path w="21488" h="21024">
                  <a:moveTo>
                    <a:pt x="21600" y="0"/>
                  </a:moveTo>
                  <a:lnTo>
                    <a:pt x="20633" y="2254"/>
                  </a:lnTo>
                  <a:cubicBezTo>
                    <a:pt x="19504" y="3757"/>
                    <a:pt x="16764" y="7889"/>
                    <a:pt x="14830" y="9579"/>
                  </a:cubicBezTo>
                  <a:cubicBezTo>
                    <a:pt x="12896" y="11270"/>
                    <a:pt x="10854" y="12209"/>
                    <a:pt x="8866" y="12397"/>
                  </a:cubicBezTo>
                  <a:cubicBezTo>
                    <a:pt x="6878" y="12584"/>
                    <a:pt x="4084" y="11082"/>
                    <a:pt x="2740" y="10706"/>
                  </a:cubicBezTo>
                  <a:cubicBezTo>
                    <a:pt x="1397" y="10330"/>
                    <a:pt x="1236" y="9767"/>
                    <a:pt x="806" y="10143"/>
                  </a:cubicBezTo>
                  <a:cubicBezTo>
                    <a:pt x="376" y="10518"/>
                    <a:pt x="215" y="11833"/>
                    <a:pt x="161" y="12960"/>
                  </a:cubicBezTo>
                  <a:cubicBezTo>
                    <a:pt x="107" y="14087"/>
                    <a:pt x="0" y="16529"/>
                    <a:pt x="484" y="17468"/>
                  </a:cubicBezTo>
                  <a:cubicBezTo>
                    <a:pt x="967" y="18407"/>
                    <a:pt x="1182" y="18595"/>
                    <a:pt x="2901" y="19158"/>
                  </a:cubicBezTo>
                  <a:cubicBezTo>
                    <a:pt x="4621" y="19722"/>
                    <a:pt x="8113" y="21600"/>
                    <a:pt x="10639" y="20849"/>
                  </a:cubicBezTo>
                  <a:cubicBezTo>
                    <a:pt x="13164" y="20097"/>
                    <a:pt x="16496" y="15777"/>
                    <a:pt x="18054" y="14087"/>
                  </a:cubicBezTo>
                  <a:cubicBezTo>
                    <a:pt x="19612" y="12397"/>
                    <a:pt x="19612" y="12209"/>
                    <a:pt x="20149" y="10143"/>
                  </a:cubicBezTo>
                  <a:cubicBezTo>
                    <a:pt x="20687" y="8077"/>
                    <a:pt x="21063" y="4883"/>
                    <a:pt x="21600" y="0"/>
                  </a:cubicBez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0" y="6180120"/>
            <a:ext cx="9156600" cy="127080"/>
            <a:chOff x="0" y="6180120"/>
            <a:chExt cx="9156600" cy="127080"/>
          </a:xfrm>
        </p:grpSpPr>
        <p:sp>
          <p:nvSpPr>
            <p:cNvPr id="254" name=""/>
            <p:cNvSpPr/>
            <p:nvPr/>
          </p:nvSpPr>
          <p:spPr>
            <a:xfrm>
              <a:off x="6440400" y="6199200"/>
              <a:ext cx="2716200" cy="108000"/>
            </a:xfrm>
            <a:custGeom>
              <a:avLst/>
              <a:gdLst/>
              <a:ahLst/>
              <a:rect l="l" t="t" r="r" b="b"/>
              <a:pathLst>
                <a:path w="21301" h="20150">
                  <a:moveTo>
                    <a:pt x="2054" y="1800"/>
                  </a:moveTo>
                  <a:cubicBezTo>
                    <a:pt x="2938" y="300"/>
                    <a:pt x="4469" y="600"/>
                    <a:pt x="5602" y="900"/>
                  </a:cubicBezTo>
                  <a:cubicBezTo>
                    <a:pt x="6735" y="1200"/>
                    <a:pt x="7843" y="2700"/>
                    <a:pt x="8889" y="3600"/>
                  </a:cubicBezTo>
                  <a:cubicBezTo>
                    <a:pt x="9935" y="4500"/>
                    <a:pt x="10968" y="6600"/>
                    <a:pt x="11914" y="7200"/>
                  </a:cubicBezTo>
                  <a:cubicBezTo>
                    <a:pt x="12860" y="7800"/>
                    <a:pt x="13533" y="7500"/>
                    <a:pt x="14603" y="7200"/>
                  </a:cubicBezTo>
                  <a:cubicBezTo>
                    <a:pt x="15674" y="6900"/>
                    <a:pt x="17417" y="5700"/>
                    <a:pt x="18338" y="4500"/>
                  </a:cubicBezTo>
                  <a:cubicBezTo>
                    <a:pt x="19259" y="3300"/>
                    <a:pt x="19621" y="0"/>
                    <a:pt x="20131" y="0"/>
                  </a:cubicBezTo>
                  <a:cubicBezTo>
                    <a:pt x="20641" y="0"/>
                    <a:pt x="21202" y="1200"/>
                    <a:pt x="21401" y="4500"/>
                  </a:cubicBezTo>
                  <a:cubicBezTo>
                    <a:pt x="21600" y="7800"/>
                    <a:pt x="21538" y="18000"/>
                    <a:pt x="21363" y="19800"/>
                  </a:cubicBezTo>
                  <a:cubicBezTo>
                    <a:pt x="21189" y="21600"/>
                    <a:pt x="20953" y="15900"/>
                    <a:pt x="20318" y="15300"/>
                  </a:cubicBezTo>
                  <a:cubicBezTo>
                    <a:pt x="19683" y="14700"/>
                    <a:pt x="18425" y="15300"/>
                    <a:pt x="17517" y="15300"/>
                  </a:cubicBezTo>
                  <a:cubicBezTo>
                    <a:pt x="16608" y="15300"/>
                    <a:pt x="15935" y="14100"/>
                    <a:pt x="14827" y="14400"/>
                  </a:cubicBezTo>
                  <a:cubicBezTo>
                    <a:pt x="13719" y="14700"/>
                    <a:pt x="12275" y="18000"/>
                    <a:pt x="10831" y="18000"/>
                  </a:cubicBezTo>
                  <a:cubicBezTo>
                    <a:pt x="9387" y="18000"/>
                    <a:pt x="7320" y="15900"/>
                    <a:pt x="6125" y="14400"/>
                  </a:cubicBezTo>
                  <a:cubicBezTo>
                    <a:pt x="4930" y="12900"/>
                    <a:pt x="4594" y="8700"/>
                    <a:pt x="3623" y="8100"/>
                  </a:cubicBezTo>
                  <a:cubicBezTo>
                    <a:pt x="2652" y="7500"/>
                    <a:pt x="523" y="11700"/>
                    <a:pt x="261" y="10800"/>
                  </a:cubicBezTo>
                  <a:cubicBezTo>
                    <a:pt x="0" y="9900"/>
                    <a:pt x="1170" y="3300"/>
                    <a:pt x="2054" y="1800"/>
                  </a:cubicBezTo>
                  <a:close/>
                  <a:moveTo>
                    <a:pt x="2054" y="180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49680" y="6184800"/>
              <a:ext cx="4189320" cy="95400"/>
            </a:xfrm>
            <a:custGeom>
              <a:avLst/>
              <a:gdLst/>
              <a:ahLst/>
              <a:rect l="l" t="t" r="r" b="b"/>
              <a:pathLst>
                <a:path w="21470" h="21600">
                  <a:moveTo>
                    <a:pt x="21486" y="2160"/>
                  </a:moveTo>
                  <a:lnTo>
                    <a:pt x="21315" y="10800"/>
                  </a:lnTo>
                  <a:cubicBezTo>
                    <a:pt x="20949" y="12960"/>
                    <a:pt x="20071" y="14400"/>
                    <a:pt x="19265" y="16200"/>
                  </a:cubicBezTo>
                  <a:cubicBezTo>
                    <a:pt x="18460" y="18000"/>
                    <a:pt x="17247" y="21600"/>
                    <a:pt x="16458" y="21600"/>
                  </a:cubicBezTo>
                  <a:cubicBezTo>
                    <a:pt x="15669" y="21600"/>
                    <a:pt x="15205" y="18720"/>
                    <a:pt x="14530" y="17280"/>
                  </a:cubicBezTo>
                  <a:cubicBezTo>
                    <a:pt x="13855" y="15840"/>
                    <a:pt x="13204" y="12960"/>
                    <a:pt x="12407" y="12960"/>
                  </a:cubicBezTo>
                  <a:cubicBezTo>
                    <a:pt x="11609" y="12960"/>
                    <a:pt x="10682" y="15840"/>
                    <a:pt x="9722" y="16200"/>
                  </a:cubicBezTo>
                  <a:cubicBezTo>
                    <a:pt x="8762" y="16560"/>
                    <a:pt x="7591" y="15120"/>
                    <a:pt x="6647" y="14040"/>
                  </a:cubicBezTo>
                  <a:cubicBezTo>
                    <a:pt x="5703" y="12960"/>
                    <a:pt x="4979" y="9720"/>
                    <a:pt x="4060" y="9720"/>
                  </a:cubicBezTo>
                  <a:cubicBezTo>
                    <a:pt x="3140" y="9720"/>
                    <a:pt x="1765" y="13680"/>
                    <a:pt x="1106" y="14040"/>
                  </a:cubicBezTo>
                  <a:cubicBezTo>
                    <a:pt x="447" y="14400"/>
                    <a:pt x="163" y="12960"/>
                    <a:pt x="81" y="11880"/>
                  </a:cubicBezTo>
                  <a:cubicBezTo>
                    <a:pt x="0" y="10800"/>
                    <a:pt x="212" y="9720"/>
                    <a:pt x="618" y="8640"/>
                  </a:cubicBezTo>
                  <a:cubicBezTo>
                    <a:pt x="1025" y="7560"/>
                    <a:pt x="1887" y="7920"/>
                    <a:pt x="2522" y="6480"/>
                  </a:cubicBezTo>
                  <a:cubicBezTo>
                    <a:pt x="3157" y="5040"/>
                    <a:pt x="3694" y="0"/>
                    <a:pt x="4426" y="0"/>
                  </a:cubicBezTo>
                  <a:cubicBezTo>
                    <a:pt x="5158" y="0"/>
                    <a:pt x="6167" y="6480"/>
                    <a:pt x="6940" y="7560"/>
                  </a:cubicBezTo>
                  <a:cubicBezTo>
                    <a:pt x="7713" y="8640"/>
                    <a:pt x="8323" y="8640"/>
                    <a:pt x="9063" y="7560"/>
                  </a:cubicBezTo>
                  <a:cubicBezTo>
                    <a:pt x="9803" y="6480"/>
                    <a:pt x="10739" y="1800"/>
                    <a:pt x="11382" y="1080"/>
                  </a:cubicBezTo>
                  <a:cubicBezTo>
                    <a:pt x="12024" y="360"/>
                    <a:pt x="12366" y="2160"/>
                    <a:pt x="12919" y="3240"/>
                  </a:cubicBezTo>
                  <a:cubicBezTo>
                    <a:pt x="13473" y="4320"/>
                    <a:pt x="14099" y="7560"/>
                    <a:pt x="14701" y="7560"/>
                  </a:cubicBezTo>
                  <a:cubicBezTo>
                    <a:pt x="15303" y="7560"/>
                    <a:pt x="15905" y="4320"/>
                    <a:pt x="16556" y="4320"/>
                  </a:cubicBezTo>
                  <a:cubicBezTo>
                    <a:pt x="17207" y="4320"/>
                    <a:pt x="17874" y="6840"/>
                    <a:pt x="18631" y="6480"/>
                  </a:cubicBezTo>
                  <a:cubicBezTo>
                    <a:pt x="19387" y="6120"/>
                    <a:pt x="20640" y="1800"/>
                    <a:pt x="21120" y="1080"/>
                  </a:cubicBezTo>
                  <a:cubicBezTo>
                    <a:pt x="21600" y="360"/>
                    <a:pt x="21567" y="1080"/>
                    <a:pt x="21486" y="2160"/>
                  </a:cubicBezTo>
                  <a:close/>
                  <a:moveTo>
                    <a:pt x="21486" y="2160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6180120"/>
              <a:ext cx="3228840" cy="92160"/>
            </a:xfrm>
            <a:custGeom>
              <a:avLst/>
              <a:gdLst/>
              <a:ahLst/>
              <a:rect l="l" t="t" r="r" b="b"/>
              <a:pathLst>
                <a:path w="21532" h="20344">
                  <a:moveTo>
                    <a:pt x="20034" y="13587"/>
                  </a:moveTo>
                  <a:cubicBezTo>
                    <a:pt x="19229" y="14284"/>
                    <a:pt x="18256" y="14632"/>
                    <a:pt x="16700" y="15677"/>
                  </a:cubicBezTo>
                  <a:cubicBezTo>
                    <a:pt x="15144" y="16723"/>
                    <a:pt x="12710" y="20206"/>
                    <a:pt x="10699" y="20903"/>
                  </a:cubicBezTo>
                  <a:cubicBezTo>
                    <a:pt x="8689" y="21600"/>
                    <a:pt x="6413" y="21252"/>
                    <a:pt x="4635" y="19858"/>
                  </a:cubicBezTo>
                  <a:cubicBezTo>
                    <a:pt x="2857" y="18465"/>
                    <a:pt x="773" y="15677"/>
                    <a:pt x="0" y="12542"/>
                  </a:cubicBezTo>
                  <a:lnTo>
                    <a:pt x="0" y="1045"/>
                  </a:lnTo>
                  <a:cubicBezTo>
                    <a:pt x="370" y="0"/>
                    <a:pt x="1386" y="5226"/>
                    <a:pt x="2222" y="6271"/>
                  </a:cubicBezTo>
                  <a:cubicBezTo>
                    <a:pt x="3059" y="7316"/>
                    <a:pt x="4191" y="7665"/>
                    <a:pt x="5016" y="7316"/>
                  </a:cubicBezTo>
                  <a:cubicBezTo>
                    <a:pt x="5842" y="6968"/>
                    <a:pt x="6434" y="3832"/>
                    <a:pt x="7175" y="3135"/>
                  </a:cubicBezTo>
                  <a:cubicBezTo>
                    <a:pt x="7916" y="2439"/>
                    <a:pt x="8636" y="2090"/>
                    <a:pt x="9493" y="3135"/>
                  </a:cubicBezTo>
                  <a:cubicBezTo>
                    <a:pt x="10350" y="4181"/>
                    <a:pt x="11292" y="9755"/>
                    <a:pt x="12350" y="10452"/>
                  </a:cubicBezTo>
                  <a:cubicBezTo>
                    <a:pt x="13409" y="11148"/>
                    <a:pt x="14837" y="9755"/>
                    <a:pt x="15875" y="8361"/>
                  </a:cubicBezTo>
                  <a:cubicBezTo>
                    <a:pt x="16912" y="6968"/>
                    <a:pt x="17832" y="1394"/>
                    <a:pt x="18605" y="1045"/>
                  </a:cubicBezTo>
                  <a:cubicBezTo>
                    <a:pt x="19378" y="697"/>
                    <a:pt x="20023" y="4529"/>
                    <a:pt x="20510" y="6271"/>
                  </a:cubicBezTo>
                  <a:cubicBezTo>
                    <a:pt x="20997" y="8013"/>
                    <a:pt x="21600" y="10452"/>
                    <a:pt x="21526" y="11497"/>
                  </a:cubicBezTo>
                  <a:cubicBezTo>
                    <a:pt x="21452" y="12542"/>
                    <a:pt x="20838" y="12890"/>
                    <a:pt x="20034" y="13587"/>
                  </a:cubicBezTo>
                  <a:close/>
                  <a:moveTo>
                    <a:pt x="20034" y="13587"/>
                  </a:move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9112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Papyrus"/>
                <a:ea typeface="Papyrus"/>
              </a:rPr>
              <a:t>What is the Eight-Fold Path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057400"/>
            <a:ext cx="354312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2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understand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motiv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2743200"/>
            <a:ext cx="27813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spee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ac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livelihoo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83280" y="2743200"/>
            <a:ext cx="293364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effor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mindfulnes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1851"/>
              </a:spcBef>
              <a:buClr>
                <a:srgbClr val="545472"/>
              </a:buClr>
              <a:buSzPct val="87000"/>
              <a:buFont typeface="Papyru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b00"/>
                </a:solidFill>
                <a:latin typeface="Papyrus"/>
                <a:ea typeface="Papyrus"/>
              </a:rPr>
              <a:t>Right medit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7696080" y="76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965160" y="5041800"/>
            <a:ext cx="2438280" cy="2111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ura</dc:creator>
  <dc:description/>
  <dc:language>en-US</dc:language>
  <cp:lastModifiedBy/>
  <cp:revision>0</cp:revision>
  <dc:subject/>
  <dc:title>Buddhism…</dc:title>
</cp:coreProperties>
</file>